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887F-F451-46C1-AEC3-52AACF85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DB72-CCFA-4302-ACA2-F1B4B026C63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3FFA-1171-474A-9871-611DF79393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D0A-EB39-435B-8AE5-D03219C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10D-EBD9-4EB6-BE9F-7037291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76B-FD77-4687-9D82-143E8886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AFA-C1F8-440F-B1EA-99F36EB3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00E-F6B1-46E0-9D01-0035682F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34D6-EAAF-4C94-AE90-4B91B65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1B13-5154-4613-906D-44FA30D7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B46-BD73-47AD-9C1C-C2840F6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DFAE-CAE2-49EE-BC6E-1E23976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344D-938B-484C-922D-9F82EE43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1B7-E243-41CA-9FF0-A6AC78B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883-2895-4D4A-A37A-FA2C6A6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1DCF-9867-469A-8520-FD7B485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CD1-ED50-42FE-8F0B-94A34A6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E70C-B973-48FB-A005-BA972F00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B4B-5AA3-4C87-9C58-182869C2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F02-52C4-4172-AA69-0BE53DCE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E879-D816-4AA7-B58F-85B9571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5479-6AC6-47C5-8480-D4288EF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EC4C-BBA6-4C18-B24C-9175BC3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3686-398A-4670-AFE0-0F7E45D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4788-9965-4CB6-A9FF-CBD638F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3AA-8530-4DDF-AF6C-B1BEC56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E76C-1700-4761-839B-841F70A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ABBB-930D-4AB3-AB55-9B969CF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DFAA-6C8F-431A-BC01-C32C220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3F27-4F6B-4AC4-988D-D2AE9B6B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ACF0-F97E-4646-97A7-6C376C0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913D-6C57-4A83-80CB-6DB7DFB7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A393-E7D0-4CD2-B06C-1D2850E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0FE-DCFB-41F8-85AF-C8F9B99F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A43-EAC4-4397-AE14-E2489B3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DA6-3B66-4C71-BDF7-CB755106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C28-DB35-4F61-AC56-E108CF7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E24-843F-4B16-955A-19502C6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F31-15D3-4E62-8C3F-2BE0EB5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4C9D-AABE-4EC2-8980-2E52FBB50F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488E-E70B-4852-9A88-F2FA7DD78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7F22-C7C1-4ACA-8556-F9264B8AD3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ugenevdebs.com/media/pdeb2l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ndustrial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Organized Labor M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685800"/>
            <a:ext cx="9144000" cy="67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Arial"/>
              </a:rPr>
              <a:t>Economic system based on cooperation rather than competi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mericans opposed capitalism and believed a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socialistic economy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better suit the US because some capitalists were corrup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es in </a:t>
            </a:r>
            <a:r>
              <a:rPr b="1" lang="en-US" sz="3600" spc="-1" strike="noStrike" u="sng">
                <a:solidFill>
                  <a:srgbClr val="005a58"/>
                </a:solidFill>
                <a:uFillTx/>
                <a:latin typeface="Times New Roman"/>
                <a:ea typeface="Arial"/>
              </a:rPr>
              <a:t>government ownershi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of business and capital (money, natural resources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Government controls production, sets wages, prices and distributes the goods.  No profit or competition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Opposite of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Arial"/>
              </a:rPr>
              <a:t>laissez fai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capitalis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380880" y="76320"/>
            <a:ext cx="8305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SOCIALISM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AutoShap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380880" y="7632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LABOR UNIONS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8380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752480" y="4800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0" y="1295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6320" y="762120"/>
            <a:ext cx="2819160" cy="5577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 Black"/>
              </a:rPr>
              <a:t>National Labor Un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illiam Sylvis, 186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killed, unskilled, farmers but excluded Chinese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ooperatives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, 8 hr. work day, against labor strik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unded a political party in 187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Involved in the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hinese Exclusion Act</a:t>
            </a:r>
            <a:r>
              <a:rPr b="0" i="1" lang="en-US" sz="1800" spc="-1" strike="noStrike">
                <a:solidFill>
                  <a:srgbClr val="003366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ost election, faded awa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eplaced by Knights of Labor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971800" y="762120"/>
            <a:ext cx="3124080" cy="526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 Black"/>
              </a:rPr>
              <a:t>Knights of Lab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errence Powderl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All workers except Chine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8 hr. day, cooperatives, prohibition, end child lab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veral strikes won some wage gains 1885 to 188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Unrealistic and vague goal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oss of important strikes and failure of cooperativ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Haymarket Riot—188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6172200" y="762120"/>
            <a:ext cx="2895480" cy="6098400"/>
          </a:xfrm>
          <a:prstGeom prst="rect">
            <a:avLst/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American Federation of Labor or AF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amuel Gompers, 188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killed workers in separate union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ork within political system for chang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losed shop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and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ollective bargain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Over 1 million workers joined and won several strik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mall part of work force eligible to joi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AutoShape 9">
            <a:hlinkClick r:id="rId1" action="ppaction://hlinksldjump"/>
          </p:cNvPr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ailroad Workers Organi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8640" y="1142640"/>
            <a:ext cx="57150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4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The Great Railroad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Strike of 18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lway workers protested unfair wage cuts and unsafe working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rike was violent and unorgan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ident Hayes sent federal troops to put down the strik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10" descr="pdeb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19320"/>
            <a:ext cx="3657600" cy="419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9" name="Text Box 13"/>
          <p:cNvSpPr/>
          <p:nvPr/>
        </p:nvSpPr>
        <p:spPr>
          <a:xfrm>
            <a:off x="0" y="5562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From then on, employers relied on federal and state troops to repress labor unre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3657600" y="1066680"/>
            <a:ext cx="54864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a5002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  <a:ea typeface="Times New Roman"/>
              </a:rPr>
              <a:t>Debs and the American Railway 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t the time of the 1877 strike, railroad workers mainly organized into various “brotherhoods,” which were basically craft un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ugene V. Debs proposed a new industrial union for all railway workers called the American Railway Union (A.R.U.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The A.R.U. would replace all of the brotherhoods and unite all railroad workers, skilled and unskil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ailroad Workers Organiz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15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prstGeom prst="irregularSeal2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3" name="Object 2"/>
          <p:cNvGraphicFramePr/>
          <p:nvPr/>
        </p:nvGraphicFramePr>
        <p:xfrm>
          <a:off x="533520" y="1219320"/>
          <a:ext cx="30686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3068640" cy="4572000"/>
                  </a:xfrm>
                  <a:prstGeom prst="rect">
                    <a:avLst/>
                  </a:prstGeom>
                  <a:ln cap="sq"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labor strkes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515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3"/>
          <p:cNvSpPr/>
          <p:nvPr/>
        </p:nvSpPr>
        <p:spPr>
          <a:xfrm>
            <a:off x="8458200" y="6400800"/>
            <a:ext cx="380880" cy="38088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rr strikes in 1877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6390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3"/>
          <p:cNvSpPr/>
          <p:nvPr/>
        </p:nvSpPr>
        <p:spPr>
          <a:xfrm>
            <a:off x="8610480" y="6324480"/>
            <a:ext cx="381240" cy="38124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197080" y="5875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3510000" y="1044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4800600" y="609480"/>
            <a:ext cx="434340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May 3, 1886, joining a nation wide strike for an 8 work day Chicago workers protested against the McCormick Reaper pla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A riot broke out and Chicago police officers killed several protes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To protest the killing, protesters planned a rally for May 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380880" y="7632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0" y="4618080"/>
            <a:ext cx="914400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3,000 gather at Chicago’s Haymarket Squ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uring the protest, a bomb explod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7 police officers were killed and civilians killed and injured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Chicago police hunt down murder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8 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anarchists were convicted of conspiracy to mur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8" descr="splash5_08"/>
          <p:cNvPicPr/>
          <p:nvPr/>
        </p:nvPicPr>
        <p:blipFill>
          <a:blip r:embed="rId2"/>
          <a:srcRect l="0" t="0" r="0" b="10512"/>
          <a:stretch/>
        </p:blipFill>
        <p:spPr>
          <a:xfrm>
            <a:off x="152280" y="762120"/>
            <a:ext cx="4572000" cy="3460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6" name="Picture 9" descr="pe5"/>
          <p:cNvPicPr/>
          <p:nvPr/>
        </p:nvPicPr>
        <p:blipFill>
          <a:blip r:embed="rId3"/>
          <a:srcRect l="0" t="0" r="0" b="48749"/>
          <a:stretch/>
        </p:blipFill>
        <p:spPr>
          <a:xfrm>
            <a:off x="152280" y="762120"/>
            <a:ext cx="4572000" cy="350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v013b"/>
          <p:cNvPicPr/>
          <p:nvPr/>
        </p:nvPicPr>
        <p:blipFill>
          <a:blip r:embed="rId4"/>
          <a:stretch/>
        </p:blipFill>
        <p:spPr>
          <a:xfrm>
            <a:off x="152280" y="685800"/>
            <a:ext cx="4648320" cy="359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1143000"/>
            <a:ext cx="914400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4 were hung and 1 committed suic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This caused the public to look down on labor unions especially the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Knights of Lab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Gov. Altgeld of Illinois later issued pardons for the remaining accused anarchist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2197080" y="5875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Picture 5" descr="space"/>
          <p:cNvPicPr/>
          <p:nvPr/>
        </p:nvPicPr>
        <p:blipFill>
          <a:blip r:embed="rId1"/>
          <a:stretch/>
        </p:blipFill>
        <p:spPr>
          <a:xfrm>
            <a:off x="2306520" y="104472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312" name="WordArt 6"/>
          <p:cNvSpPr txBox="1"/>
          <p:nvPr/>
        </p:nvSpPr>
        <p:spPr>
          <a:xfrm>
            <a:off x="609480" y="15228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Haymarket Five"/>
          <p:cNvPicPr/>
          <p:nvPr/>
        </p:nvPicPr>
        <p:blipFill>
          <a:blip r:embed="rId1"/>
          <a:stretch/>
        </p:blipFill>
        <p:spPr>
          <a:xfrm>
            <a:off x="228600" y="685800"/>
            <a:ext cx="472428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4937040" y="884160"/>
            <a:ext cx="3826080" cy="5457960"/>
            <a:chOff x="4937040" y="884160"/>
            <a:chExt cx="3826080" cy="5457960"/>
          </a:xfrm>
        </p:grpSpPr>
        <p:sp>
          <p:nvSpPr>
            <p:cNvPr id="315" name="Rectangle 4"/>
            <p:cNvSpPr/>
            <p:nvPr/>
          </p:nvSpPr>
          <p:spPr>
            <a:xfrm>
              <a:off x="4937040" y="884160"/>
              <a:ext cx="269172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4937040" y="884160"/>
              <a:ext cx="3826080" cy="54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7" name="Rectangle 6"/>
          <p:cNvSpPr/>
          <p:nvPr/>
        </p:nvSpPr>
        <p:spPr>
          <a:xfrm>
            <a:off x="5029200" y="1143000"/>
            <a:ext cx="4114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8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The five men are clockwise from 1:00 o'clock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 R. Pars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dolph Fisch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George Eng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ugust Sp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ouis Lingg (middl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irst four were hanged on Friday, November 11, 1887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ingg committed suicide on November 10, 1887 by lighting a stick of dynamite in his mouth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380880" y="152280"/>
            <a:ext cx="8458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ffffff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omestead"/>
          <p:cNvPicPr/>
          <p:nvPr/>
        </p:nvPicPr>
        <p:blipFill>
          <a:blip r:embed="rId2"/>
          <a:stretch/>
        </p:blipFill>
        <p:spPr>
          <a:xfrm>
            <a:off x="152280" y="838080"/>
            <a:ext cx="4343400" cy="325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0" name="WordArt 3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63360" dir="10800000" blurRad="0" rotWithShape="0">
                    <a:srgbClr val="000000"/>
                  </a:outerShdw>
                </a:effectLst>
                <a:latin typeface="Impact"/>
              </a:rPr>
              <a:t>HOMESTEAD STRIK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633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0" y="762120"/>
            <a:ext cx="45720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1892, Carnegie Steel workers strike over pay c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anagement locks out workers and hires scab work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Violence erupted between strikers and scab work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inkerton Security called in to settle vio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0" y="4495680"/>
            <a:ext cx="914400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Strikers ambush them and forced Pinkerton’s to walk the gauntlet between strikin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ome killed and many injur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National Guard was called in by the governor of Pennsylvania to stop violence and reopen pla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66294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f497d"/>
                </a:solidFill>
                <a:latin typeface="Arial"/>
                <a:ea typeface="Times New Roman"/>
              </a:rPr>
              <a:t>Picture: Workers vs Owner</a:t>
            </a: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52280" y="1447920"/>
            <a:ext cx="876312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Poor working condi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Unfriendliness/impersonaliz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Immigrants taking job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Decrease work da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Machines replacing work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Child labo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Job securit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OMESTEAD STRIK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6320" y="990720"/>
            <a:ext cx="89154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rnegie successfully broke up the attempt to organize a unio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No labor unions in steel industry until the 1920’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rnegie would be remembered for events at Homestea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 Black"/>
              </a:rPr>
              <a:t>His public image suffer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8610480" y="6172200"/>
            <a:ext cx="381240" cy="380880"/>
          </a:xfrm>
          <a:prstGeom prst="irregularSeal2">
            <a:avLst/>
          </a:prstGeom>
          <a:solidFill>
            <a:srgbClr val="0000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ullman Strik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cc"/>
                </a:solidFill>
                <a:latin typeface="Georgia"/>
              </a:rPr>
              <a:t>Pullman, 189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ugene Debs instructed strikers not to interfere with the n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 mai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ailway owners turned to the government for help. The judge cited the Sherman Antitrust Act and won a court order forbidding all union activity that halted railroad traff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urt orders against unions continued, limiting union gains for the next 30 yea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8610480" y="6172200"/>
            <a:ext cx="381240" cy="38088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action of Employ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Employers hated &amp; feared unions.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uropean influences of soci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bor strikes always tended to be viol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ome took steps to stop unions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bidding unio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ring union organiz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cing new employees to s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yellow d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tracts, making them promise never to join a union or participate in a str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using 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bargain collectivel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hen strikes did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using to recognize unions as their wor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egitimate represent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s of the Labor Mov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ons were not always granted as legally protected organizations  and gains were limited for more than 30 yea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bs became socialist and formed the American Socialist Party and the Industrial Workers of the World (IWW) a radical union group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686800" y="6477120"/>
            <a:ext cx="304920" cy="304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914400"/>
            <a:ext cx="42670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Impact"/>
                <a:ea typeface="Times New Roman"/>
              </a:rPr>
              <a:t>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5000"/>
              </a:lnSpc>
              <a:spcBef>
                <a:spcPts val="1500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Some owners viewed workers as parts of the machine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5000"/>
              </a:lnSpc>
              <a:spcBef>
                <a:spcPts val="1500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Unlike smaller and older businesses, most owners never interacted with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 algn="ctr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impersonal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343400" y="91440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7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Impact"/>
                <a:ea typeface="Times New Roman"/>
              </a:rPr>
              <a:t>Work Enviro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Factory workers worked by the cl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ers could be fired for being late, talking, or refusing to do a tas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places were not safe. </a:t>
            </a:r>
            <a:r>
              <a:rPr b="0" lang="en-US" sz="2400" spc="-1" strike="noStrike">
                <a:solidFill>
                  <a:srgbClr val="c0504d"/>
                </a:solidFill>
                <a:latin typeface="Georgia"/>
                <a:ea typeface="Times New Roman"/>
              </a:rPr>
              <a:t>(Sweatsho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Children performed unsafe work and worked in dangerously unhealthy condit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In the 1890s and early 1900s states began legislating child labor</a:t>
            </a:r>
            <a:r>
              <a:rPr b="0" lang="en-US" sz="2000" spc="-1" strike="noStrike">
                <a:solidFill>
                  <a:srgbClr val="003366"/>
                </a:solidFill>
                <a:latin typeface="Georgia"/>
                <a:ea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ers were paid low wag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4267080" y="1295280"/>
            <a:ext cx="0" cy="5334120"/>
          </a:xfrm>
          <a:prstGeom prst="line">
            <a:avLst/>
          </a:prstGeom>
          <a:ln cap="sq"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4343400" y="1295280"/>
            <a:ext cx="0" cy="5334120"/>
          </a:xfrm>
          <a:prstGeom prst="line">
            <a:avLst/>
          </a:prstGeom>
          <a:ln cap="sq"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57200" y="152280"/>
            <a:ext cx="830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Factory Work</a:t>
            </a:r>
            <a:endParaRPr b="0" lang="en-US" sz="24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the 1880s, children made up more th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5 perc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industrial labor fo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ildren often left school at the age of 12 or 13 to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irls sometimes took factory jobs so that their brothers could stay in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n adult became too ill to work, children as young as 6 or 7 had to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724280" y="1143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arely did the government provide public assistance, and unemployment insurance did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 exis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theory of Social Darwinism held that poverty resulted from personal weaknes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y thought that offering relief to the unemployed would encourage idlenes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457200" y="228600"/>
            <a:ext cx="830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WORKING FAMILIES</a:t>
            </a:r>
            <a:endParaRPr b="0" lang="en-US" sz="24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ny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any Towns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communities owned by the business and rented out to employe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controlled the “company store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gregation was also prevalent in company tow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arly Labor Prote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lective Bargaining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ng as a group for higher wages or better working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kes were used early 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Trades Union founded in 1834=  first national labor un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162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163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164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167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170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173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176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182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185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188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1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895480" y="3780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People refuse to buy a company's product until the company meets demands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oycot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0" y="22860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abor Strik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2895480" y="175248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ons' method for having their demands met. Workers stop working until the conditions are met. It is a very effective form of attack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0" y="99072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abor Un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2895480" y="89856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orkers who organize against their employers to seek better wages and working conditions for wage earner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2895480" y="5227560"/>
            <a:ext cx="6248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ew immigrants who would replace strikers and work for less pay.  Often violence would erupt between strikers and scabs who were trying to cross picket lines to wo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0" y="5500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cab Work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AutoShape 41">
            <a:hlinkClick r:id="rId1" action="ppaction://hlinksldjump"/>
          </p:cNvPr>
          <p:cNvSpPr/>
          <p:nvPr/>
        </p:nvSpPr>
        <p:spPr>
          <a:xfrm>
            <a:off x="8610480" y="655308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202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203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204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207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210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1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 working establishment where only people belonging to the union are hired. It was done by the unions to protect their workers from cheap labor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213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216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219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222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225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228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1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0" y="2286000"/>
            <a:ext cx="2819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lack List or Black Ball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2895480" y="1782720"/>
            <a:ext cx="62485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List of people disliked by business owners because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 Black"/>
              </a:rPr>
              <a:t>they were leaders in the Un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.  Often would loose their jobs, beaten up or even kil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AutoShape 35">
            <a:hlinkClick r:id="rId1" action="ppaction://hlinksldjump"/>
          </p:cNvPr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971800" y="3505320"/>
            <a:ext cx="6172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ype of negotiation between an employer and labor union where they sit down face to face and discuss better wage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0" y="3886200"/>
            <a:ext cx="2819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llective Barg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0" y="106668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losed Sho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0" y="53341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Yellow Dog 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ntra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2895480" y="5257800"/>
            <a:ext cx="60199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A written contract between employers and employees in which the employees sign an agreement that they will not join a union while working for the company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241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242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246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Lock Out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249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3000"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2000"/>
                  </a:br>
                  <a:br>
                    <a:rPr sz="2000"/>
                  </a:br>
                  <a:br>
                    <a:rPr sz="2000"/>
                  </a:br>
                  <a:r>
                    <a:rPr b="1" lang="en-US" sz="2400" spc="-1" strike="noStrike">
                      <a:solidFill>
                        <a:srgbClr val="003366"/>
                      </a:solidFill>
                      <a:latin typeface="Tahoma"/>
                      <a:ea typeface="Times New Roman"/>
                    </a:rPr>
                    <a:t>Owner of industry would “lock out” workers who were trying to form a union and replace them with “scabs”.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252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255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258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261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264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267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0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895480" y="3657600"/>
            <a:ext cx="624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28195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0" y="2438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opera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2895480" y="2133720"/>
            <a:ext cx="6248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ustry or business organization owned by and operated for the benefit of those using its services—non-prof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53:11Z</dcterms:created>
  <dc:creator>Sacerdote, Kevin R.</dc:creator>
  <dc:description/>
  <dc:language>en-US</dc:language>
  <cp:lastModifiedBy>Sacerdote, Kevin R.</cp:lastModifiedBy>
  <dcterms:modified xsi:type="dcterms:W3CDTF">2016-09-20T16:16:12Z</dcterms:modified>
  <cp:revision>9</cp:revision>
  <dc:subject/>
  <dc:title>The Industrial Revolution</dc:title>
</cp:coreProperties>
</file>